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2C4E-E05E-4138-93C6-A58F0EC84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2B7D-1830-4142-94EE-3E512F6D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A5AC-809C-4011-AF65-6DC8BF118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38A8-1478-4853-96F4-0A8C14136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2A9D-3B81-46A0-B307-14D23639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A56C-647E-48F9-80C9-D84C014D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0D29-590C-4059-BDB5-48E2FB26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7475-80F8-48C0-B4EE-2607B71A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C712-D988-4D0B-A9E3-F12727F7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6B25-654F-4AF0-A01C-CF966A3B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AC01-384A-44D5-A02C-7B5FB7F9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1039-F051-4FF5-942A-1F0AD0F0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56F509-B717-47CF-BED7-8DB3581D632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avidson_13e_Table 12.1.jpg"/>
          <p:cNvPicPr/>
          <p:nvPr/>
        </p:nvPicPr>
        <p:blipFill>
          <a:blip r:embed="rId1"/>
          <a:stretch/>
        </p:blipFill>
        <p:spPr>
          <a:xfrm>
            <a:off x="2316240" y="0"/>
            <a:ext cx="450972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avidson_13e_Table 12.2.jpg"/>
          <p:cNvPicPr/>
          <p:nvPr/>
        </p:nvPicPr>
        <p:blipFill>
          <a:blip r:embed="rId1"/>
          <a:stretch/>
        </p:blipFill>
        <p:spPr>
          <a:xfrm>
            <a:off x="2766960" y="0"/>
            <a:ext cx="360972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avidson_13e_Table 12.2(Continued).jpg"/>
          <p:cNvPicPr/>
          <p:nvPr/>
        </p:nvPicPr>
        <p:blipFill>
          <a:blip r:embed="rId1"/>
          <a:stretch/>
        </p:blipFill>
        <p:spPr>
          <a:xfrm>
            <a:off x="2994120" y="0"/>
            <a:ext cx="3155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0</Words>
  <Paragraphs>0</Paragraphs>
  <Company>C &amp; M Digitals (P) Ltd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9:32:58Z</dcterms:created>
  <dc:creator>Administrator</dc:creator>
  <dc:description/>
  <dc:language>en-US</dc:language>
  <cp:lastModifiedBy>Administrator</cp:lastModifiedBy>
  <dcterms:modified xsi:type="dcterms:W3CDTF">2012-04-04T09:33:11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3</vt:r8>
  </property>
</Properties>
</file>